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DD2-DA39-4E16-BE2C-048F98E4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0BF-1BC8-4420-8663-83565D98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46F-1927-4866-9512-04AAA25A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8D3-ABCA-442C-B758-32C0CFC9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D84-FCF5-4316-B7EE-052BA9AD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75E-393C-4746-97B3-A0930480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5A6-BFF4-4AF8-B8BF-D27E0D33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F93-F23A-4570-B954-5F911BCF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FFF-C1BF-439F-BC0B-3B3BFBFF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837-43DE-4695-BCB6-57EACEF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4F0-080B-4073-84DE-7663FA8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D67-862A-497C-A87C-79053BD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52D7-883E-4855-B584-A4B8E499D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ssion for this presentation is currently restricted. This presentation can only be opened by using Microsoft Office 2003 or later. You can request the author of the presentation to send a copy that can be read using the Rights Management Add-on for Interne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4-11-02T00:56:25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